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EC2-746A-4DC0-8EEF-569755AC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822-49D6-465F-86B0-DE5577B6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94143C-7FA8-4725-91D9-EA230E40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0F4E82-3546-45AC-ABE5-9C708C6E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840D26-9CAB-468B-B30E-7F34CF72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5EB774-78D0-4302-B0A3-2794D357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15150-966D-4C7D-BBD1-2237985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9858F-7E92-4FA3-95E3-7152F987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8AF67F-FEF9-4E0B-9F57-B1CC32AE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C9CB0B-7BC2-444B-A7D0-B6883924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F9C0B2-40F8-4DD0-BAB5-C6C6E6CB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A7ECF-5EDF-4CEE-9098-293694B1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B5B-9989-4B2C-9CC4-BD14434E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F28DA-389A-407A-A6F5-C6EC382B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857B9-DA70-412F-B6EA-FC40600E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DBEC0-7BB6-4EDD-9D91-90F69122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16EBE-C10D-438D-85FC-1EDE2053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8BE06-AF05-4956-A9F2-5DF1C380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31A0B-C659-4868-BCF3-4CBD722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0B419-11EB-40CC-8DFB-44875430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7D9B5-109C-4E9A-A99D-32A26DC0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CDC80-7779-453E-B521-687A050D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C68ED-C890-4E0C-B8E0-51F4462C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13D-EE27-4192-9C2F-70B10ED7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FEE5E-D932-40EB-93A4-1500EE43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B4DC4-617F-4FD7-949A-949BB9F1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852D8-3827-4BB8-8D7E-D36173FA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D1703-5BCD-42CE-AFAF-492945A8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ED0F7-BB97-42B5-AF16-9BFBB879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C1084-E41A-47CB-A688-43491C96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380CB-5555-4097-94CC-C583C80C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8FB10-EC8F-444B-B137-A70231E6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EEC79-141E-4197-A3A7-676F4C69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B5FF9-F090-45CF-B694-86F8B51C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3C54-BF53-4EA3-9FC6-00B91FAC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3905E-3E98-4627-BF5A-7E0D5A3B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64E99-2104-440D-9DAA-23389D6E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0F4EF-C689-4F53-9441-D52DFAA8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F4AD1-3534-465F-84DC-7CDD68EA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65762-CB19-46B2-AC93-ED3C6D9A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53979-3AF4-4AC3-9180-147F5FC4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2CAEA-AE08-4A1B-ABD2-45E5DB49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DA42A-8612-448F-BDD2-1B83E11D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17193-068E-436C-BE7C-8DE162BF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C46B8-0886-4281-BF8A-FBF8F6EC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0F4C-033E-496F-90C0-78224507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15179-8357-4A26-934A-0D83B6E8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EDB43-A1E7-4A7B-BB24-3F0F42A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E1A5D-88BE-454C-AD54-B1E2C774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F5B96-A34E-4DE6-80E6-915CE0FC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36229-3227-4F61-BA7C-48458664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D3343-C9A6-4BDD-AAAB-9E06DD18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8437D-5660-4ED8-92D5-E7757135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CF777-6209-4569-B895-BAC46114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786CE-E781-4376-9C9E-BA04E057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AFA62-88D8-437A-8F31-EC9DF904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A37D-552C-42A6-AF80-01AEA419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5E3AD-DDBF-40AF-98DB-E95D46CF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5D995-A2CD-41B8-BB91-9D3E2125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267F2-BCD2-4EA5-8C3D-9E7A10BA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5CFCB-FD87-4D29-B013-124613A3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095C8-E607-4F2D-A337-FCEFD9DB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778A3-8EA1-420E-869B-4A91EA8A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C6BB2-4B33-434A-97A0-7C36C002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96EC8-A00D-4532-BB0D-776C0963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93270-1A49-4613-9007-D51CE485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079A4-2385-4BB6-919F-A873A2B7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8924-1C73-4E8C-ABE2-759444E4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490FE-73E4-4AC0-A48B-508571B5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6BF97-66F2-4E10-B0CF-51A9C9E5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EB801-838D-4285-B311-C9E197AE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4D65F-64DA-463F-A54D-C1863813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0E7B0-762A-411F-B229-782BAB07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77CD8-92F0-4FE3-A1EE-C2AB7B47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98C3B-B72A-4B1F-A51B-A0180951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4B9FA-8E0E-472D-AA7D-F05862A4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FB7AF-6A43-4072-BDF8-F88E10F0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14C69-1F3F-4AAE-BA3A-0EDD0BE7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DB64-FB47-4EB6-97EB-273289CE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697131-43B1-4335-A1B7-14B411C1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85098-A9B4-4CEF-8479-6A601D33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F0EC7-BC84-49FF-99F0-5D2220EE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293AD-7241-4939-BD26-0FD2F663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995BF-C22F-47F5-AAA7-31E18C3E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E0EF3-C313-4E12-ADAC-D77B64EC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9ED309-AA29-4820-BAAD-7037B084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E8153-85E6-4573-8053-5C451771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EE28C-ADAC-477F-9E4D-B9D301DF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6B611-DDBD-4ED5-A055-025B5DED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34AA-D96F-4F06-8216-65B4ADCF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2616C-EF63-4973-AFBC-E8C1BB33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4EEE2-5251-48C4-8310-282AC244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F052A5-3C9F-4652-BFDE-CD778C5F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EB9A92-8AFB-4662-B14E-F1D45C67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C1B59-0F8A-4854-9044-C68E77C2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8DFD0-05FF-42FF-8061-AE139F64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01C53-00B5-4988-8E14-34BA06B4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5E529-F17C-496C-A746-BC3D12BC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D8B133-0A19-4BAC-BA7A-6BF7C1F1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67FED-5865-4BEB-97F5-A8F3DC5B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517C-C645-430F-B75C-4220D61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B7034-ED89-4069-A615-9F938EB3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8767B-6E84-43AF-911E-F014F553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2E10D-C743-408C-A4ED-63B51599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87536-78DD-4376-97FB-43389D2E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92A81-6554-473C-B863-1F1BD539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94A3C-7A1C-45E8-B8E5-3A4E3C7C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8C7DA-48E5-4462-80AA-1CB8EBF0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8510F-9978-40A1-86B2-EF3096D6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45B1B-243F-4BCE-AB67-FC710D58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4DBEE-27F2-41AF-809B-F94C2500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8AE-1D81-4C28-AB07-B6DB6D1C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950C-CE08-412F-BBE9-2F00157F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ABD26B-4C23-438C-A29D-6FF763B0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0A5586-820A-486C-9A54-5E2D6D6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17A31-4238-4901-B07A-1B13EF2C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0ED57-4876-4D76-8D0E-0E93B785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C6BCC-3FFA-4781-B929-473E6ACB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C5268-CA66-458D-A442-6C96364E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511804-E866-4F64-8918-35D9DC57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C364AD-1804-4049-A619-EE300508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74774C-0410-48D5-BADB-6BC561D2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365BA-FF64-4848-920A-F6FC578B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8061-C8CD-4521-A023-711A9BE7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BFD1D8-DD8E-4C14-A20D-2DDDEB8D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88F23-48B6-4E83-BCF5-CC6779C5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9EFB4-7FA3-43E2-A841-9133F795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82AEF5-249A-4BEC-93EB-A9D853ED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3F424-EFE8-462F-A39D-129ED097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8FC72-1A29-431A-98DE-4F4EFB29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218803-D274-4DEF-A81E-FCC88062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60D8E-F386-4CC5-B636-168EFCC1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654E78-1343-4FC4-B3EF-D184E585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F432C-33AA-4148-9DB5-F62F6A3A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582C-976F-4129-B7DE-C73271F2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BCAF33-6390-4542-95AA-EACEEA06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F0FDF2-B9B3-40AB-9F25-7EFA11EE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86386-7033-4997-AA47-225E283C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97AE40-210B-4C18-B7A9-CF402D64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36620B-6CAC-43E6-AA6C-DC2ABE62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918115-D9EB-42C1-A6CB-C21674F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83692-A976-45A4-B567-25686137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9B7E1-04F3-4CBA-B010-BAC103B7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865A4-6399-4A1F-A1C3-9A307694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1C924-CF98-4984-BF0D-5795F582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A745-618A-494D-BF96-5CFDCD63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ED3284-3AAD-4641-A4A9-82E18F61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CE6CCD-B587-483A-A54D-D6BE0AE2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5FBE7-F148-4F22-8BC7-A02DCC38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34B38-B481-4F3A-A97B-FD5BDF7D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356457-EFF9-48D0-86E6-D24F765E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92B147-8A1D-4B6A-B17E-A4B54DBD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0F0C47-22C8-4017-9454-DF88A789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DB5670-F9FB-4359-8505-15E22843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1658EF-658B-4B36-B05F-275A1906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6BD96-1F01-464A-9BF1-AF29876C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E89D-656F-43CF-81E5-DFD40B66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998D8-E618-4E43-AC0A-68E1972A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BCA2F-3B05-4F74-AAF0-998BF2A2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88F8-98FC-4B57-83A3-3683F4AB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AA7C-D03A-482B-8167-4661B6A7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21424-68D9-49AB-AF76-DB76EE65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198E-142E-4D7E-A4B1-5539CD8D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993-A3D7-40CC-864B-B9B205D2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8AE0-C18F-462D-B0F1-26B0B633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48653-E219-4655-B9E5-29AD3A13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2873-1159-4707-BECE-2F788200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DAED-AFA9-4866-BE79-C01EE27A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5F14-7969-42F6-B81A-55DB7EBE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44A94-8DC3-42B8-BC59-B77B2D6D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D6D0-024B-4D68-B513-06B4A55D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47FF49-4525-4314-8820-495C6D7A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E0FEC-CB4A-4106-B788-8F099E4A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3EA85-E19A-496D-91A7-3E01B90C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2BE-FA14-4EB4-9D8D-E0A52469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974A0-F491-4304-BB8A-2672F046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5ACF6-4174-4FBA-BCE8-22CAD84B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9A38D-48C4-467A-BD40-74F552ED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D11784-E16B-4CC1-BB57-1E824CB7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489EC-2466-488E-AA35-6F18EB73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6BEBC-AD5B-49BE-AC06-AB0CEEAB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C475C-AD97-417A-935F-157B047C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B99EB-B7C3-4B67-9230-3581DEBA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134FB-2122-4173-938B-DDF92B7D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38AFD-1975-438C-BB25-D9628D9E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F2E-DCC4-46AE-AD49-8A47CC5F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DE8CE-F63D-4F3A-8FB8-2675489A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8E704-8372-44D9-BEA0-27F20BAC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6AE0-CAE9-4E80-89CC-580002F9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4F7E0-9D53-4D4E-B14F-8638C94A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17D0D-C91A-40CE-BAE1-604544FF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422B-28B0-4654-944A-3D239EBB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E579D-A375-4557-A01E-4FE52E1C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7CCBF-0BED-4D59-9BF9-4A41B6D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55E59-6876-4B2D-B4F3-98A4AD4A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D499A-1386-4C3C-8228-51496BB7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4CD-F527-472F-8BAD-574E6BAA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1666B-1B3A-4678-88BE-F3E0D302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AA50E-5943-4D4B-849A-6DD15C92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0DEF3-E7CF-4999-A8EC-D223FB59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D4333-3D68-4E77-A434-00CBA656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BF336-3470-4714-A0B6-2D265613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5BE3F-2AC0-40C8-864D-B79293FC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B9072-E2F0-4084-968B-AFAECEAE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B7414-2C5B-4745-B76C-44F902D3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B594-F218-4F80-A613-CA269EA3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EFD28-6C07-4AED-8CE4-BFC96787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375-83D4-4AAC-BD03-9DDE988F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6133E-8FF3-4F66-96FA-4A676F80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5383C-24D4-4E8A-B88B-E9FDB149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E4B12-1B9D-4ECF-B0C9-F4B3FF02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92A94-C823-49F1-8566-979391E6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BA0D6-6BD5-460D-BE09-252E6247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35293-0352-4F1C-BBF1-2B23524F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5F64D-46CC-4DEA-B621-090F2C30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AD3AD-3897-40AC-AD10-C695E822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A67DE-A0C0-4542-BE93-821C9BD4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F0A47-4F59-4F9C-86F4-E0287B8B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94C-AA18-49EA-B44A-50D51827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27096-D583-4B11-97D6-1489CC3A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3BA10-A9FB-4B06-9454-3A0B6DDA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47315-56DD-4A36-865E-7CD48528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C193E-4D16-4929-BACC-B7A81E1B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97EC0-EE40-47B4-A98A-07BA5FA6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CC2D86-0A61-4B5E-A9B1-014669B6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6A3BD0-01CF-41D1-BD6B-E4625511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919597-34AA-470F-B976-3AC3C6C8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65AAC9-CFDD-458B-874B-B3F7C4E1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61BD1D-E645-4776-A4F7-2FBBE28C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B09-E899-460F-9055-BAE19FF8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CB0255-0144-4FA1-A089-502301EE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41E784-AE7D-42FB-8B60-2FA9DFC1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96A667-6516-4BD8-86C3-B2E6129C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D41C76-0DA2-4F21-BF4C-D7981823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34AFE1-376E-4CCF-9EF8-0DE10C74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B6A3FC-DCAC-4653-9026-7FE704C7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604FA9-59C9-40B7-8519-D15501CB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95E0D0-F818-4F90-945A-49F5DC52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A19CAD-4C3E-4C0B-9FFE-F9CE7580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B9108B-179B-4FB5-9FEA-944C9B74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69.xml"/><Relationship Id="rId35" Type="http://schemas.openxmlformats.org/officeDocument/2006/relationships/slideLayout" Target="../slideLayouts/slideLayout170.xml"/><Relationship Id="rId36" Type="http://schemas.openxmlformats.org/officeDocument/2006/relationships/slideLayout" Target="../slideLayouts/slideLayout171.xml"/><Relationship Id="rId37" Type="http://schemas.openxmlformats.org/officeDocument/2006/relationships/slideLayout" Target="../slideLayouts/slideLayout172.xml"/><Relationship Id="rId38" Type="http://schemas.openxmlformats.org/officeDocument/2006/relationships/slideLayout" Target="../slideLayouts/slideLayout173.xml"/><Relationship Id="rId39" Type="http://schemas.openxmlformats.org/officeDocument/2006/relationships/slideLayout" Target="../slideLayouts/slideLayout174.xml"/><Relationship Id="rId40" Type="http://schemas.openxmlformats.org/officeDocument/2006/relationships/slideLayout" Target="../slideLayouts/slideLayout175.xml"/><Relationship Id="rId41" Type="http://schemas.openxmlformats.org/officeDocument/2006/relationships/slideLayout" Target="../slideLayouts/slideLayout176.xml"/><Relationship Id="rId42" Type="http://schemas.openxmlformats.org/officeDocument/2006/relationships/slideLayout" Target="../slideLayouts/slideLayout177.xml"/><Relationship Id="rId43" Type="http://schemas.openxmlformats.org/officeDocument/2006/relationships/slideLayout" Target="../slideLayouts/slideLayout178.xml"/><Relationship Id="rId44" Type="http://schemas.openxmlformats.org/officeDocument/2006/relationships/slideLayout" Target="../slideLayouts/slideLayout179.xml"/><Relationship Id="rId4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81.xml"/><Relationship Id="rId32" Type="http://schemas.openxmlformats.org/officeDocument/2006/relationships/slideLayout" Target="../slideLayouts/slideLayout182.xml"/><Relationship Id="rId33" Type="http://schemas.openxmlformats.org/officeDocument/2006/relationships/slideLayout" Target="../slideLayouts/slideLayout183.xml"/><Relationship Id="rId34" Type="http://schemas.openxmlformats.org/officeDocument/2006/relationships/slideLayout" Target="../slideLayouts/slideLayout184.xml"/><Relationship Id="rId35" Type="http://schemas.openxmlformats.org/officeDocument/2006/relationships/slideLayout" Target="../slideLayouts/slideLayout185.xml"/><Relationship Id="rId36" Type="http://schemas.openxmlformats.org/officeDocument/2006/relationships/slideLayout" Target="../slideLayouts/slideLayout186.xml"/><Relationship Id="rId37" Type="http://schemas.openxmlformats.org/officeDocument/2006/relationships/slideLayout" Target="../slideLayouts/slideLayout187.xml"/><Relationship Id="rId38" Type="http://schemas.openxmlformats.org/officeDocument/2006/relationships/slideLayout" Target="../slideLayouts/slideLayout188.xml"/><Relationship Id="rId39" Type="http://schemas.openxmlformats.org/officeDocument/2006/relationships/slideLayout" Target="../slideLayouts/slideLayout189.xml"/><Relationship Id="rId40" Type="http://schemas.openxmlformats.org/officeDocument/2006/relationships/slideLayout" Target="../slideLayouts/slideLayout190.xml"/><Relationship Id="rId41" Type="http://schemas.openxmlformats.org/officeDocument/2006/relationships/slideLayout" Target="../slideLayouts/slideLayout191.xml"/><Relationship Id="rId42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FA19-7C66-490A-AEF3-6779860237D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1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E978-E3E8-4EB0-8FDE-93DC5028D7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7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7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9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2DCD-5182-460F-BD7A-A965FC5499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6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6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8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5874-2909-4AB0-9079-A35369BA28F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5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C8A0-9D51-4549-AFFC-DC1A65232C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3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2713-68BF-4687-976B-9A5255667E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1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1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1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1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1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2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3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5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 type="dt" idx="4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ftr" idx="4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 type="sldNum" idx="4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0942-74D4-4358-BE4E-821FE0B74C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4"/>
    <p:sldLayoutId id="2147483832" r:id="rId35"/>
    <p:sldLayoutId id="2147483833" r:id="rId36"/>
    <p:sldLayoutId id="2147483834" r:id="rId37"/>
    <p:sldLayoutId id="2147483835" r:id="rId38"/>
    <p:sldLayoutId id="2147483836" r:id="rId39"/>
    <p:sldLayoutId id="2147483837" r:id="rId40"/>
    <p:sldLayoutId id="2147483838" r:id="rId41"/>
    <p:sldLayoutId id="2147483839" r:id="rId42"/>
    <p:sldLayoutId id="2147483840" r:id="rId43"/>
    <p:sldLayoutId id="2147483841" r:id="rId44"/>
    <p:sldLayoutId id="2147483842" r:id="rId4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0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40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1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1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1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1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2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3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4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dt" idx="4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 type="ftr" idx="4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 type="sldNum" idx="4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F228-1EE2-434B-93E6-C13E4AA703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1"/>
    <p:sldLayoutId id="2147483845" r:id="rId32"/>
    <p:sldLayoutId id="2147483846" r:id="rId33"/>
    <p:sldLayoutId id="2147483847" r:id="rId34"/>
    <p:sldLayoutId id="2147483848" r:id="rId35"/>
    <p:sldLayoutId id="2147483849" r:id="rId36"/>
    <p:sldLayoutId id="2147483850" r:id="rId37"/>
    <p:sldLayoutId id="2147483851" r:id="rId38"/>
    <p:sldLayoutId id="2147483852" r:id="rId39"/>
    <p:sldLayoutId id="2147483853" r:id="rId40"/>
    <p:sldLayoutId id="2147483854" r:id="rId41"/>
    <p:sldLayoutId id="2147483855" r:id="rId42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50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50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5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20A7-747A-40A8-9425-2E80C3EABFC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5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5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6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6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16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71AD-817E-46CF-A355-4C92909CC2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3B94-8969-4083-9F64-B29703029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94FD-EE93-4E18-BE70-86452E93F45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9083-350D-4685-935A-442FC2A93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2DF2-4BCD-4681-9A92-872161D65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5923-0DF6-4669-8B79-23314BAFA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71E4-7C7A-455D-8CB9-353B9BC53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8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E398-0E49-4057-AEE3-94ED2F4F2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3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3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CAFD-6B7E-467E-A843-D8854ABFFB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9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9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9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0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10C0-1771-43B0-AD73-77E8B78533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5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AF05-EC81-44B0-A03A-621D017B82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1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urlz MT"/>
              </a:rPr>
              <a:t>La man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Ana Min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 un gar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Verdana"/>
              </a:rPr>
              <a:t>El garaje es lujosa y grand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La man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ahoma"/>
              </a:rPr>
              <a:t>La mansion es grande y moder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0" name="" descr=""/>
          <p:cNvPicPr/>
          <p:nvPr/>
        </p:nvPicPr>
        <p:blipFill>
          <a:blip r:embed="rId2"/>
          <a:stretch/>
        </p:blipFill>
        <p:spPr>
          <a:xfrm>
            <a:off x="2438280" y="2819520"/>
            <a:ext cx="4572000" cy="3166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c5c4"/>
                </a:solidFill>
                <a:latin typeface="Arial Black"/>
              </a:rPr>
              <a:t>La coci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La cocina es bonita y estupend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3" name="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411480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c1f5"/>
                </a:solidFill>
                <a:latin typeface="Arial"/>
              </a:rPr>
              <a:t>El comed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l comedor es pequ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pero comod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6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876920" cy="31435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La cas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La casa es lujoso y fabulosa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9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5029200" cy="272088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ban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El bano es rojo y Blanco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2" name="" descr=""/>
          <p:cNvPicPr/>
          <p:nvPr/>
        </p:nvPicPr>
        <p:blipFill>
          <a:blip r:embed="rId1"/>
          <a:stretch/>
        </p:blipFill>
        <p:spPr>
          <a:xfrm>
            <a:off x="1981080" y="2335320"/>
            <a:ext cx="4724640" cy="37386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El cuarto es rojo, Blanco, azul, y café y bella.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5" name="" descr=""/>
          <p:cNvPicPr/>
          <p:nvPr/>
        </p:nvPicPr>
        <p:blipFill>
          <a:blip r:embed="rId2"/>
          <a:stretch/>
        </p:blipFill>
        <p:spPr>
          <a:xfrm>
            <a:off x="2133720" y="27432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l pati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patio es relajante y bonita.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8" name="" descr=""/>
          <p:cNvPicPr/>
          <p:nvPr/>
        </p:nvPicPr>
        <p:blipFill>
          <a:blip r:embed="rId1"/>
          <a:stretch/>
        </p:blipFill>
        <p:spPr>
          <a:xfrm>
            <a:off x="2209680" y="2184480"/>
            <a:ext cx="4724640" cy="39132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jardi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l jardin es impresionante y tiene un esquema de color agradabl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761" name="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4572000" cy="32767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5:41Z</dcterms:created>
  <dc:creator>minaana</dc:creator>
  <dc:description/>
  <dc:language>en-US</dc:language>
  <cp:lastModifiedBy>minaana</cp:lastModifiedBy>
  <dcterms:modified xsi:type="dcterms:W3CDTF">2012-10-26T17:11:09Z</dcterms:modified>
  <cp:revision>9</cp:revision>
  <dc:subject/>
  <dc:title>La mansion</dc:title>
</cp:coreProperties>
</file>